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05E-E6A0-4718-BDD7-EE4DC1A62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893E-0D06-4894-90A5-5179DCB3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DB0-CD98-49C4-AC89-7494CF4F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CB45-5F0B-4DCC-AE77-154AFCD5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BF169E1-9D2D-42F4-A9C0-6101322235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0640" y="4284720"/>
            <a:ext cx="4905360" cy="392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lvl="1" marL="11448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ven though for only 50 cases suggests tha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WRF-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errors for standard metrics are comparable to operational regional hurricane models (GFDL, HW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esting observations is that operational hurricane models have slight positive intensity bias for the 50 cases, whil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WRF-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has a negative bias, yet the mean absolute error is compar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5BD-B682-49D0-9417-1F1BB09D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76632BA-6880-4D69-BCC6-9D3993BB7DE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99B-6F6F-40F2-BF1B-11A7B3143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EF1-5291-4BF2-A1F2-FFB069F2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EA6-5435-44EE-8C9D-4DFB7C0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C9C-AB54-4299-B95B-6CE80A53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E94-14F0-400D-91A0-8BBEC762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A88-BEFE-4F1F-9BB2-03B415B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AAA-2C00-4BF4-8A7F-252136B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295-B52C-4BB0-9144-127E700C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FB4-F1F3-4CFE-AE12-884F511A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C70-D797-4399-9AA7-F27115E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49D-38B8-4961-B628-8C2708A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6CE-88B9-414F-97D8-F32B392E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A87-45A2-451F-9CDD-8153EA8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A1C-94D4-4368-BF0E-D27DD14C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torm.aoml.noaa.gov/hwrfx/" TargetMode="External"/><Relationship Id="rId2" Type="http://schemas.openxmlformats.org/officeDocument/2006/relationships/hyperlink" Target="https://storm.aoml.noaa.gov/hwrfx/" TargetMode="External"/><Relationship Id="rId3" Type="http://schemas.openxmlformats.org/officeDocument/2006/relationships/hyperlink" Target="https://storm.aoml.noaa.gov/hwrfx/" TargetMode="External"/><Relationship Id="rId4" Type="http://schemas.openxmlformats.org/officeDocument/2006/relationships/hyperlink" Target="https://storm.aoml.noaa.gov/hwrfx/" TargetMode="External"/><Relationship Id="rId5" Type="http://schemas.openxmlformats.org/officeDocument/2006/relationships/hyperlink" Target="https://storm.aoml.noaa.gov/hwrfx/" TargetMode="External"/><Relationship Id="rId6" Type="http://schemas.openxmlformats.org/officeDocument/2006/relationships/hyperlink" Target="https://storm.aoml.noaa.gov/hwrfx/" TargetMode="External"/><Relationship Id="rId7" Type="http://schemas.openxmlformats.org/officeDocument/2006/relationships/hyperlink" Target="https://storm.aoml.noaa.gov/hwrfx/" TargetMode="External"/><Relationship Id="rId8" Type="http://schemas.openxmlformats.org/officeDocument/2006/relationships/hyperlink" Target="https://storm.aoml.noaa.gov/hwrfx/" TargetMode="External"/><Relationship Id="rId9" Type="http://schemas.openxmlformats.org/officeDocument/2006/relationships/hyperlink" Target="https://storm.aoml.noaa.gov/hwrfx/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6"/>
          <p:cNvSpPr/>
          <p:nvPr/>
        </p:nvSpPr>
        <p:spPr>
          <a:xfrm>
            <a:off x="380880" y="26668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nley Goldenberg and the HWRFX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 collaboration with our NOAA partners at EMC/N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28600" y="1219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RFX Statistics: Impact of Resolution and Init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4" descr="C:\Users\gopal\Documents\back_up\aoml.jpg"/>
          <p:cNvPicPr/>
          <p:nvPr/>
        </p:nvPicPr>
        <p:blipFill>
          <a:blip r:embed="rId1"/>
          <a:stretch/>
        </p:blipFill>
        <p:spPr>
          <a:xfrm>
            <a:off x="7734240" y="76320"/>
            <a:ext cx="102888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C:\Users\gopal\Desktop\noaa.jpg"/>
          <p:cNvPicPr/>
          <p:nvPr/>
        </p:nvPicPr>
        <p:blipFill>
          <a:blip r:embed="rId2"/>
          <a:stretch/>
        </p:blipFill>
        <p:spPr>
          <a:xfrm>
            <a:off x="228600" y="76320"/>
            <a:ext cx="1066680" cy="990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1366920" y="213372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ita (Sept 20, 2005 00Z fc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1520" y="220968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Katrina (Aug 27, 2005 00Z fc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RESOLUTION HURRICANE 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459720" y="617220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(Aug 27, 2005 00Z f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04920" y="121932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27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90720" y="19051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09680" y="121932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0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819520" y="19051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733920" cy="3633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6"/>
          <p:cNvSpPr/>
          <p:nvPr/>
        </p:nvSpPr>
        <p:spPr>
          <a:xfrm>
            <a:off x="4952880" y="129528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Higher resolution improves  track forecast for lead times 24-48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4876920" y="6095880"/>
            <a:ext cx="350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Higher resolution improves intensity forecast for lead times 12-48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hart 13" descr=""/>
          <p:cNvPicPr/>
          <p:nvPr/>
        </p:nvPicPr>
        <p:blipFill>
          <a:blip r:embed="rId2"/>
          <a:stretch/>
        </p:blipFill>
        <p:spPr>
          <a:xfrm>
            <a:off x="4565520" y="3425760"/>
            <a:ext cx="3895920" cy="22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343400" y="5562720"/>
          <a:ext cx="4065480" cy="565200"/>
        </p:xfrm>
        <a:graphic>
          <a:graphicData uri="http://schemas.openxmlformats.org/drawingml/2006/table">
            <a:tbl>
              <a:tblPr/>
              <a:tblGrid>
                <a:gridCol w="609480"/>
                <a:gridCol w="327240"/>
                <a:gridCol w="341280"/>
                <a:gridCol w="341280"/>
                <a:gridCol w="341280"/>
                <a:gridCol w="341280"/>
                <a:gridCol w="339840"/>
                <a:gridCol w="341280"/>
                <a:gridCol w="369720"/>
                <a:gridCol w="341280"/>
                <a:gridCol w="371520"/>
              </a:tblGrid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3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9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65" name="Chart 15" descr=""/>
          <p:cNvPicPr/>
          <p:nvPr/>
        </p:nvPicPr>
        <p:blipFill>
          <a:blip r:embed="rId3"/>
          <a:stretch/>
        </p:blipFill>
        <p:spPr>
          <a:xfrm>
            <a:off x="4492800" y="676440"/>
            <a:ext cx="3968640" cy="222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67080" y="2906640"/>
          <a:ext cx="4114800" cy="565200"/>
        </p:xfrm>
        <a:graphic>
          <a:graphicData uri="http://schemas.openxmlformats.org/drawingml/2006/table">
            <a:tbl>
              <a:tblPr/>
              <a:tblGrid>
                <a:gridCol w="646200"/>
                <a:gridCol w="341280"/>
                <a:gridCol w="339840"/>
                <a:gridCol w="341280"/>
                <a:gridCol w="341280"/>
                <a:gridCol w="341280"/>
                <a:gridCol w="341280"/>
                <a:gridCol w="341280"/>
                <a:gridCol w="339840"/>
                <a:gridCol w="371520"/>
                <a:gridCol w="369720"/>
              </a:tblGrid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olu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0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3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WRFx-9k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482760" y="6489720"/>
            <a:ext cx="53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580-53D1-4005-9443-E5CACD9461E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3640" y="1109520"/>
            <a:ext cx="3181320" cy="4842000"/>
          </a:xfrm>
          <a:prstGeom prst="rect">
            <a:avLst/>
          </a:prstGeom>
          <a:noFill/>
          <a:ln w="0">
            <a:noFill/>
          </a:ln>
        </p:spPr>
        <p:txBody>
          <a:bodyPr rIns="182880" anchor="t">
            <a:normAutofit/>
          </a:bodyPr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 HWRFx at resolution (9/3km), no ocean, no vortex initialization (HWRF IC/GFS B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WRFx run real-time twice a day (00Z, 12Z) for 78 cases 126 h fore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ATCF to multi-model regional ense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JET statistics (averag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time: 2.5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processing:  50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471920" y="115884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WRFx real-time demo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s://storm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aoml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noaa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wrfx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Picture 1.png"/>
          <p:cNvPicPr/>
          <p:nvPr/>
        </p:nvPicPr>
        <p:blipFill>
          <a:blip r:embed="rId10"/>
          <a:srcRect l="0" t="0" r="1313" b="0"/>
          <a:stretch/>
        </p:blipFill>
        <p:spPr>
          <a:xfrm>
            <a:off x="3495600" y="1981080"/>
            <a:ext cx="5343480" cy="415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9 Hurricane Se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MATLAB7\work\Model\HWRF\Bill2009\BILL03L.2009081600\Bill2009081600_intensity.tif"/>
          <p:cNvPicPr/>
          <p:nvPr/>
        </p:nvPicPr>
        <p:blipFill>
          <a:blip r:embed="rId1"/>
          <a:srcRect l="4166" t="4561" r="6254" b="3457"/>
          <a:stretch/>
        </p:blipFill>
        <p:spPr>
          <a:xfrm>
            <a:off x="4343400" y="990720"/>
            <a:ext cx="3227400" cy="236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MATLAB7\work\Model\HWRF\Bill2009\BILL03L.2009081600\Bill2009081600_track.tif"/>
          <p:cNvPicPr/>
          <p:nvPr/>
        </p:nvPicPr>
        <p:blipFill>
          <a:blip r:embed="rId2"/>
          <a:srcRect l="5772" t="12502" r="7694" b="15072"/>
          <a:stretch/>
        </p:blipFill>
        <p:spPr>
          <a:xfrm>
            <a:off x="533520" y="762120"/>
            <a:ext cx="34225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9"/>
          <p:cNvSpPr/>
          <p:nvPr/>
        </p:nvSpPr>
        <p:spPr>
          <a:xfrm>
            <a:off x="787320" y="6512040"/>
            <a:ext cx="533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F8C2-F3A4-4A8D-B0A6-8E54D361950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od – Hurricane Bill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6212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gly – TS Erika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C:\Documents and Settings\kevin.yeh\My Documents\2009 Stats\Erika2009090212_HWRFx_3km_wind_swath.gif"/>
          <p:cNvPicPr/>
          <p:nvPr/>
        </p:nvPicPr>
        <p:blipFill>
          <a:blip r:embed="rId3"/>
          <a:stretch/>
        </p:blipFill>
        <p:spPr>
          <a:xfrm>
            <a:off x="762120" y="4191120"/>
            <a:ext cx="334332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kevin.yeh\My Documents\2009 Stats\Erika2009090212_HxGFS_3km_wind_swath.gif"/>
          <p:cNvPicPr/>
          <p:nvPr/>
        </p:nvPicPr>
        <p:blipFill>
          <a:blip r:embed="rId4"/>
          <a:stretch/>
        </p:blipFill>
        <p:spPr>
          <a:xfrm>
            <a:off x="4648320" y="4267080"/>
            <a:ext cx="3676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7" descr=""/>
          <p:cNvPicPr/>
          <p:nvPr/>
        </p:nvPicPr>
        <p:blipFill>
          <a:blip r:embed="rId1"/>
          <a:stretch/>
        </p:blipFill>
        <p:spPr>
          <a:xfrm>
            <a:off x="3730680" y="762120"/>
            <a:ext cx="485280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685800" y="1522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9 Hurricane Se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hart 1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4651200" cy="312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3981600"/>
            <a:ext cx="13716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28600" y="914400"/>
            <a:ext cx="3581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227160" indent="-227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 performance is comparable to other regional models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imilar to HRH resul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WRFx has intensity bias at 9/3 km with HWRF IC (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RH used GFDL 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9 real-time demo indicates a strong need to evaluate IC and physi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sitivity to Initia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80880" y="5257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5: (1) Emily (2) Katrina (3) Ophelia 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ill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Rita (6)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7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g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Humberto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ar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9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Bill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an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ri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hart 8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4365720" cy="3475080"/>
          </a:xfrm>
          <a:prstGeom prst="rect">
            <a:avLst/>
          </a:prstGeom>
          <a:ln w="0">
            <a:noFill/>
          </a:ln>
        </p:spPr>
      </p:pic>
      <p:pic>
        <p:nvPicPr>
          <p:cNvPr id="87" name="Chart 9" descr=""/>
          <p:cNvPicPr/>
          <p:nvPr/>
        </p:nvPicPr>
        <p:blipFill>
          <a:blip r:embed="rId2"/>
          <a:stretch/>
        </p:blipFill>
        <p:spPr>
          <a:xfrm>
            <a:off x="4645080" y="1219320"/>
            <a:ext cx="44197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–vs- Strong st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5105520"/>
          <a:ext cx="4114800" cy="612720"/>
        </p:xfrm>
        <a:graphic>
          <a:graphicData uri="http://schemas.openxmlformats.org/drawingml/2006/table">
            <a:tbl>
              <a:tblPr/>
              <a:tblGrid>
                <a:gridCol w="412920"/>
                <a:gridCol w="411120"/>
                <a:gridCol w="409320"/>
                <a:gridCol w="411120"/>
                <a:gridCol w="412920"/>
                <a:gridCol w="412920"/>
                <a:gridCol w="411120"/>
                <a:gridCol w="409320"/>
                <a:gridCol w="411120"/>
                <a:gridCol w="41292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572000" y="5105520"/>
          <a:ext cx="4267080" cy="612720"/>
        </p:xfrm>
        <a:graphic>
          <a:graphicData uri="http://schemas.openxmlformats.org/drawingml/2006/table">
            <a:tbl>
              <a:tblPr/>
              <a:tblGrid>
                <a:gridCol w="428760"/>
                <a:gridCol w="425160"/>
                <a:gridCol w="425520"/>
                <a:gridCol w="425520"/>
                <a:gridCol w="428760"/>
                <a:gridCol w="428400"/>
                <a:gridCol w="425520"/>
                <a:gridCol w="425520"/>
                <a:gridCol w="425520"/>
                <a:gridCol w="42840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Chart 6" descr=""/>
          <p:cNvPicPr/>
          <p:nvPr/>
        </p:nvPicPr>
        <p:blipFill>
          <a:blip r:embed="rId1"/>
          <a:stretch/>
        </p:blipFill>
        <p:spPr>
          <a:xfrm>
            <a:off x="146160" y="1292400"/>
            <a:ext cx="4273560" cy="3724200"/>
          </a:xfrm>
          <a:prstGeom prst="rect">
            <a:avLst/>
          </a:prstGeom>
          <a:ln w="0">
            <a:noFill/>
          </a:ln>
        </p:spPr>
      </p:pic>
      <p:pic>
        <p:nvPicPr>
          <p:cNvPr id="92" name="Chart 7" descr=""/>
          <p:cNvPicPr/>
          <p:nvPr/>
        </p:nvPicPr>
        <p:blipFill>
          <a:blip r:embed="rId2"/>
          <a:stretch/>
        </p:blipFill>
        <p:spPr>
          <a:xfrm>
            <a:off x="4565520" y="1292400"/>
            <a:ext cx="424368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3:36:13Z</dcterms:created>
  <dc:creator>gopal</dc:creator>
  <dc:description/>
  <dc:language>en-US</dc:language>
  <cp:lastModifiedBy>gopal</cp:lastModifiedBy>
  <dcterms:modified xsi:type="dcterms:W3CDTF">2010-06-17T02:21:01Z</dcterms:modified>
  <cp:revision>289</cp:revision>
  <dc:subject/>
  <dc:title>HWRFx: Regional Scale Model Development at OAR</dc:title>
</cp:coreProperties>
</file>